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8FF4-4048-4AD7-AAC6-9B4ECA27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C9E8-1A67-444A-AA3B-F813B166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384E-5C62-4970-A524-48358FA2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1DBA-4730-4BA3-B69C-83B78B0F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0BA5-F497-463D-846E-F92F6496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D774-0286-4697-95AA-BABDE464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2AB9-E189-483A-A56B-C419FD72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6D07-8950-48ED-8BB5-12102ECB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BA51-AB39-439C-9024-40FB4DCA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1EA6-D12B-453E-A54E-42714E39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53FC-46D6-47D5-8FF2-3DA92479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C201-0AEC-41AF-B53B-6C82D7DB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DCCA-2AF0-4815-93A1-8D5DB5606D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0760" y="15984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О войн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562505.jpg"/>
          <p:cNvPicPr/>
          <p:nvPr/>
        </p:nvPicPr>
        <p:blipFill>
          <a:blip r:embed="rId1"/>
          <a:stretch/>
        </p:blipFill>
        <p:spPr>
          <a:xfrm>
            <a:off x="5867280" y="2781360"/>
            <a:ext cx="300060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10.jpg"/>
          <p:cNvPicPr/>
          <p:nvPr/>
        </p:nvPicPr>
        <p:blipFill>
          <a:blip r:embed="rId2"/>
          <a:stretch/>
        </p:blipFill>
        <p:spPr>
          <a:xfrm>
            <a:off x="4408560" y="272880"/>
            <a:ext cx="3143160" cy="23641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2boica-02.jpg"/>
          <p:cNvPicPr/>
          <p:nvPr/>
        </p:nvPicPr>
        <p:blipFill>
          <a:blip r:embed="rId3"/>
          <a:stretch/>
        </p:blipFill>
        <p:spPr>
          <a:xfrm>
            <a:off x="2575080" y="4468680"/>
            <a:ext cx="3182760" cy="22608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" descr=""/>
          <p:cNvPicPr/>
          <p:nvPr/>
        </p:nvPicPr>
        <p:blipFill>
          <a:blip r:embed="rId4"/>
          <a:stretch/>
        </p:blipFill>
        <p:spPr>
          <a:xfrm>
            <a:off x="149400" y="755640"/>
            <a:ext cx="371304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2"/>
          <p:cNvSpPr/>
          <p:nvPr/>
        </p:nvSpPr>
        <p:spPr>
          <a:xfrm>
            <a:off x="611280" y="549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1476360" y="260280"/>
            <a:ext cx="6048360" cy="340056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2484360" y="4797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nherit"/>
              </a:rPr>
              <a:t>«Белорусский вокза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nherit"/>
              </a:rPr>
              <a:t>«Горячий сне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nherit"/>
              </a:rPr>
              <a:t>«Бере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1476360" y="3789360"/>
            <a:ext cx="68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Здесь птицы не поют, деревья не растут»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 песня из ЭТОГО  кинофильма стала любимой многим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611280" y="549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1332000" y="58572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4242"/>
                </a:solidFill>
                <a:latin typeface="PT Sans"/>
              </a:rPr>
              <a:t>За участие в ЭТОЙ картине ряд актеров и оператор-постановщик были удостоены Сталинской премии в 1949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3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048720" cy="34192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1908000" y="5456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овесть о настоящем человек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Чистое неб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покойный день в конце войн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dea9be75bd1803ac787578e92f5.jpg"/>
          <p:cNvPicPr/>
          <p:nvPr/>
        </p:nvPicPr>
        <p:blipFill>
          <a:blip r:embed="rId1"/>
          <a:stretch/>
        </p:blipFill>
        <p:spPr>
          <a:xfrm>
            <a:off x="212760" y="911160"/>
            <a:ext cx="3303720" cy="26431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3" descr="2a3ff4745642.jpg"/>
          <p:cNvPicPr/>
          <p:nvPr/>
        </p:nvPicPr>
        <p:blipFill>
          <a:blip r:embed="rId2"/>
          <a:stretch/>
        </p:blipFill>
        <p:spPr>
          <a:xfrm>
            <a:off x="6215040" y="4500720"/>
            <a:ext cx="2806560" cy="21430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800_1ebc3f3b86ecc7856bf4f1dbadd66268.jpg"/>
          <p:cNvPicPr/>
          <p:nvPr/>
        </p:nvPicPr>
        <p:blipFill>
          <a:blip r:embed="rId3"/>
          <a:stretch/>
        </p:blipFill>
        <p:spPr>
          <a:xfrm>
            <a:off x="357120" y="4143240"/>
            <a:ext cx="3357720" cy="25178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1269395.jpg"/>
          <p:cNvPicPr/>
          <p:nvPr/>
        </p:nvPicPr>
        <p:blipFill>
          <a:blip r:embed="rId4"/>
          <a:stretch/>
        </p:blipFill>
        <p:spPr>
          <a:xfrm>
            <a:off x="5627520" y="71748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b00132.jpg"/>
          <p:cNvPicPr/>
          <p:nvPr/>
        </p:nvPicPr>
        <p:blipFill>
          <a:blip r:embed="rId5"/>
          <a:stretch/>
        </p:blipFill>
        <p:spPr>
          <a:xfrm>
            <a:off x="3300480" y="2963880"/>
            <a:ext cx="3330360" cy="235908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4503600" y="1357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91080" y="179280"/>
            <a:ext cx="82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фильм, кадры из  которого представл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4289760" y="1428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a40db3e4a996.jpg"/>
          <p:cNvPicPr/>
          <p:nvPr/>
        </p:nvPicPr>
        <p:blipFill>
          <a:blip r:embed="rId1"/>
          <a:stretch/>
        </p:blipFill>
        <p:spPr>
          <a:xfrm>
            <a:off x="5000760" y="3643200"/>
            <a:ext cx="3976560" cy="29149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2764_640x464.jpg"/>
          <p:cNvPicPr/>
          <p:nvPr/>
        </p:nvPicPr>
        <p:blipFill>
          <a:blip r:embed="rId2"/>
          <a:stretch/>
        </p:blipFill>
        <p:spPr>
          <a:xfrm>
            <a:off x="5572080" y="1000080"/>
            <a:ext cx="3349800" cy="2428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1667032.jpg"/>
          <p:cNvPicPr/>
          <p:nvPr/>
        </p:nvPicPr>
        <p:blipFill>
          <a:blip r:embed="rId3"/>
          <a:stretch/>
        </p:blipFill>
        <p:spPr>
          <a:xfrm>
            <a:off x="285840" y="1000080"/>
            <a:ext cx="3535200" cy="25718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1268066365_v-boj-idut-odni-stariki2.jpg"/>
          <p:cNvPicPr/>
          <p:nvPr/>
        </p:nvPicPr>
        <p:blipFill>
          <a:blip r:embed="rId4"/>
          <a:stretch/>
        </p:blipFill>
        <p:spPr>
          <a:xfrm>
            <a:off x="3571920" y="2786040"/>
            <a:ext cx="229068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7" descr="1268066423_v-boj-idut-odni-stariki3.jpg"/>
          <p:cNvPicPr/>
          <p:nvPr/>
        </p:nvPicPr>
        <p:blipFill>
          <a:blip r:embed="rId5"/>
          <a:stretch/>
        </p:blipFill>
        <p:spPr>
          <a:xfrm>
            <a:off x="357120" y="3857760"/>
            <a:ext cx="3571920" cy="26175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628560" y="279360"/>
            <a:ext cx="81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фильм, кадры из  которого представл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2" descr="45402984_A_zori_zdes_tihie.jpg"/>
          <p:cNvPicPr/>
          <p:nvPr/>
        </p:nvPicPr>
        <p:blipFill>
          <a:blip r:embed="rId1"/>
          <a:stretch/>
        </p:blipFill>
        <p:spPr>
          <a:xfrm>
            <a:off x="4286160" y="3786120"/>
            <a:ext cx="4550040" cy="27860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22fe8ea34727.jpg"/>
          <p:cNvPicPr/>
          <p:nvPr/>
        </p:nvPicPr>
        <p:blipFill>
          <a:blip r:embed="rId2"/>
          <a:stretch/>
        </p:blipFill>
        <p:spPr>
          <a:xfrm>
            <a:off x="5357880" y="1071720"/>
            <a:ext cx="3313080" cy="2214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536_113.jpg"/>
          <p:cNvPicPr/>
          <p:nvPr/>
        </p:nvPicPr>
        <p:blipFill>
          <a:blip r:embed="rId3"/>
          <a:stretch/>
        </p:blipFill>
        <p:spPr>
          <a:xfrm>
            <a:off x="285840" y="3857760"/>
            <a:ext cx="3429000" cy="2754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072105.jpg"/>
          <p:cNvPicPr/>
          <p:nvPr/>
        </p:nvPicPr>
        <p:blipFill>
          <a:blip r:embed="rId4"/>
          <a:stretch/>
        </p:blipFill>
        <p:spPr>
          <a:xfrm>
            <a:off x="112680" y="857160"/>
            <a:ext cx="3951360" cy="257184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4575600" y="1714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" descr=""/>
          <p:cNvPicPr/>
          <p:nvPr/>
        </p:nvPicPr>
        <p:blipFill>
          <a:blip r:embed="rId5"/>
          <a:stretch/>
        </p:blipFill>
        <p:spPr>
          <a:xfrm>
            <a:off x="247680" y="123840"/>
            <a:ext cx="83646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" descr="92516.jpg"/>
          <p:cNvPicPr/>
          <p:nvPr/>
        </p:nvPicPr>
        <p:blipFill>
          <a:blip r:embed="rId1"/>
          <a:stretch/>
        </p:blipFill>
        <p:spPr>
          <a:xfrm>
            <a:off x="5929200" y="642960"/>
            <a:ext cx="2957760" cy="24289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f2131d566fea.png"/>
          <p:cNvPicPr/>
          <p:nvPr/>
        </p:nvPicPr>
        <p:blipFill>
          <a:blip r:embed="rId2"/>
          <a:stretch/>
        </p:blipFill>
        <p:spPr>
          <a:xfrm>
            <a:off x="4500720" y="3500280"/>
            <a:ext cx="4227480" cy="31467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glazova02.jpg"/>
          <p:cNvPicPr/>
          <p:nvPr/>
        </p:nvPicPr>
        <p:blipFill>
          <a:blip r:embed="rId3"/>
          <a:stretch/>
        </p:blipFill>
        <p:spPr>
          <a:xfrm>
            <a:off x="285840" y="4214880"/>
            <a:ext cx="2890800" cy="23432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1a1e777ec2ebc56bdf79bfca900_prev.jpg"/>
          <p:cNvPicPr/>
          <p:nvPr/>
        </p:nvPicPr>
        <p:blipFill>
          <a:blip r:embed="rId4"/>
          <a:stretch/>
        </p:blipFill>
        <p:spPr>
          <a:xfrm>
            <a:off x="214200" y="1143000"/>
            <a:ext cx="3643560" cy="272880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4503960" y="1714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" descr=""/>
          <p:cNvPicPr/>
          <p:nvPr/>
        </p:nvPicPr>
        <p:blipFill>
          <a:blip r:embed="rId5"/>
          <a:stretch/>
        </p:blipFill>
        <p:spPr>
          <a:xfrm>
            <a:off x="279360" y="68400"/>
            <a:ext cx="836460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2" descr="Genya_Genechka_i_Katyusha_1-10-35_554.jpg"/>
          <p:cNvPicPr/>
          <p:nvPr/>
        </p:nvPicPr>
        <p:blipFill>
          <a:blip r:embed="rId1"/>
          <a:stretch/>
        </p:blipFill>
        <p:spPr>
          <a:xfrm>
            <a:off x="5786280" y="85716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" descr="2b39baca60d4423119986e91983_prev.jpg"/>
          <p:cNvPicPr/>
          <p:nvPr/>
        </p:nvPicPr>
        <p:blipFill>
          <a:blip r:embed="rId2"/>
          <a:stretch/>
        </p:blipFill>
        <p:spPr>
          <a:xfrm>
            <a:off x="428760" y="4214880"/>
            <a:ext cx="3220920" cy="24289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1351_4.jpg"/>
          <p:cNvPicPr/>
          <p:nvPr/>
        </p:nvPicPr>
        <p:blipFill>
          <a:blip r:embed="rId3"/>
          <a:stretch/>
        </p:blipFill>
        <p:spPr>
          <a:xfrm>
            <a:off x="4714920" y="357192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Genya_Genechka_i_Katyusha_0-14-38_184.jpg"/>
          <p:cNvPicPr/>
          <p:nvPr/>
        </p:nvPicPr>
        <p:blipFill>
          <a:blip r:embed="rId4"/>
          <a:stretch/>
        </p:blipFill>
        <p:spPr>
          <a:xfrm>
            <a:off x="214200" y="1071720"/>
            <a:ext cx="3905280" cy="292896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4718160" y="1714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1" descr=""/>
          <p:cNvPicPr/>
          <p:nvPr/>
        </p:nvPicPr>
        <p:blipFill>
          <a:blip r:embed="rId5"/>
          <a:stretch/>
        </p:blipFill>
        <p:spPr>
          <a:xfrm>
            <a:off x="428760" y="210960"/>
            <a:ext cx="836424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1232640" y="1285920"/>
            <a:ext cx="30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лексей Мерес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393480" y="3541680"/>
            <a:ext cx="39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) «Батальоны просят огня» Бондар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432000" y="3929040"/>
            <a:ext cx="38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) «В списках не значился» Васил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241920" y="4299120"/>
            <a:ext cx="46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) «Повесть о настоящем человеке» Поле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8" descr="38177266.jpg"/>
          <p:cNvPicPr/>
          <p:nvPr/>
        </p:nvPicPr>
        <p:blipFill>
          <a:blip r:embed="rId1"/>
          <a:stretch/>
        </p:blipFill>
        <p:spPr>
          <a:xfrm>
            <a:off x="5081760" y="887400"/>
            <a:ext cx="3500280" cy="524052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361440" y="907920"/>
            <a:ext cx="472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овите фильм, где главного героя зов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4199040" y="214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1296360" y="14288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ндрей Сок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355680" y="328464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 «В окопах Сталинграда» Некр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856800" y="374184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 «Сын полка» Кат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419040" y="4135320"/>
            <a:ext cx="33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 «Судьба человека» Шоло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6" descr="106900516.jpg"/>
          <p:cNvPicPr/>
          <p:nvPr/>
        </p:nvPicPr>
        <p:blipFill>
          <a:blip r:embed="rId1"/>
          <a:stretch/>
        </p:blipFill>
        <p:spPr>
          <a:xfrm>
            <a:off x="4195800" y="1690560"/>
            <a:ext cx="4775040" cy="365292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326520" y="941400"/>
            <a:ext cx="472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овите фильм, где главного героя зов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4199040" y="214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4" descr=""/>
          <p:cNvPicPr/>
          <p:nvPr/>
        </p:nvPicPr>
        <p:blipFill>
          <a:blip r:embed="rId1"/>
          <a:stretch/>
        </p:blipFill>
        <p:spPr>
          <a:xfrm>
            <a:off x="1547640" y="264960"/>
            <a:ext cx="6048720" cy="42386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5"/>
          <p:cNvSpPr/>
          <p:nvPr/>
        </p:nvSpPr>
        <p:spPr>
          <a:xfrm>
            <a:off x="1547640" y="4518000"/>
            <a:ext cx="77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ЭТОМ  фильме  прозвучала фра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Есть такая профессия - Родину защищать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3419640" y="53006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inherit"/>
              </a:rPr>
              <a:t>«Офице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inherit"/>
              </a:rPr>
              <a:t>«Неуловимые мстител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inherit"/>
              </a:rPr>
              <a:t>«Батальоны просят огн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611280" y="549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9:14:39Z</dcterms:created>
  <dc:creator>User011</dc:creator>
  <dc:description/>
  <dc:language>en-US</dc:language>
  <cp:lastModifiedBy>М00005001</cp:lastModifiedBy>
  <dcterms:modified xsi:type="dcterms:W3CDTF">2020-03-26T07:03:43Z</dcterms:modified>
  <cp:revision>45</cp:revision>
  <dc:subject/>
  <dc:title>киновикторина</dc:title>
</cp:coreProperties>
</file>